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BE07-1F6D-4E58-BD97-655D5FC724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0938-F9DD-4E1F-B29A-07216F6C97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17E7-6F2B-477D-8288-AD3DDB2A98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8FB2-BF6F-476B-9FAB-577A46C15B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EC62-F297-4CC7-AF3F-10F97A9932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08BD-C947-4AA3-8546-DD27415041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002F-1E8B-449C-A5E3-7C1A097F68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3A00-7AC4-4CAC-841C-7D39150526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8DC5-8E2B-4BFB-91F3-A399FF37D0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5194-D497-43E3-AF56-E984599615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8BDE2-BAC8-4348-B926-E9683954E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920" y="40748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1BF92-C5A3-4BA4-9E79-B88C25B7A9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6320" y="1447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40748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6320" y="40748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F6992-92AA-4A44-8C21-AB08CAD5B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160" y="1447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79040" y="1447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920" y="40748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160" y="40748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79040" y="40748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D929A-30D3-48A1-B922-B92E4FF88C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0F5C0-FA68-4454-AEC5-ABE8E490CA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2342E-9744-4A0F-A4FF-6BF21158E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6320" y="14479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5A6F8-E934-4716-AE33-CE3B925A7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4B24-E52B-4B70-8E8F-433358B1B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560" y="15192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ACFFB-2495-4E16-8636-9AF9C5B90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6320" y="14479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920" y="40748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FFE44-D350-4175-82D5-65E02ED062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6320" y="1447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6320" y="40748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D98C4-D942-4875-9B3F-14C9E73071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447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40748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2CABF-41D3-44BD-BC0D-BDF66AB7DA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1967-A480-4184-9323-81A2774FF97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923240" y="0"/>
            <a:ext cx="121932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jpeg"/><Relationship Id="rId3" Type="http://schemas.openxmlformats.org/officeDocument/2006/relationships/hyperlink" Target="http://www.worldofteaching.com/" TargetMode="External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819520" y="6858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cc"/>
                </a:solidFill>
                <a:latin typeface="Comic Sans MS"/>
              </a:rPr>
              <a:t>COAST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1066680" cy="104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234CC-8D8E-43A2-A26B-850CB30A31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59280" y="691920"/>
            <a:ext cx="324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arch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2276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311640" cy="441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5FF2-6B6A-4C19-9B06-13B08C1849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59280" y="691920"/>
            <a:ext cx="324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pillar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2276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311640" cy="441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25538-FCB1-4C57-9D84-209813DEE8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859280" y="691920"/>
            <a:ext cx="324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stack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2276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311640" cy="441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3E37A-52C3-44C9-8B67-9B6387340D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9280" y="691920"/>
            <a:ext cx="324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stump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2276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31164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2A6C4-79AD-4A9D-9A04-963D49B3D8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59280" y="691920"/>
            <a:ext cx="324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reef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276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333600" cy="444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CC301-D9F5-4916-9698-4CCDC3DCEF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85840" y="151920"/>
            <a:ext cx="4267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riginal photo</a:t>
            </a:r>
            <a:br>
              <a:rPr sz="4400"/>
            </a:br>
            <a:br>
              <a:rPr sz="2400"/>
            </a:b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http://www.leler.com/hawaii/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38120" y="2286000"/>
            <a:ext cx="4953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you remember the orde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5003640" y="2852640"/>
            <a:ext cx="32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311640" cy="441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92BD5-AC6C-4D5B-B4F8-AD211A89AC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Some examples</a:t>
            </a: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Old Harry’s Rock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22226" r="0" b="0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8DBD1-9985-49D4-98EB-3CABCDE460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What happens next?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ce the rock has been eroded away from the cliff by abrasion and corrosion and hydraulic 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ieces will be further broken down by attrition, becoming smoother and smaller over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of it will be transported away and deposited somewhere e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oken rock ends up on beaches as sand or shingle (round pebbl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E437F-F0AF-42FD-B0D2-15A5361D46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But beaches do not stay the same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st of the waves break on the beaches at an ang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of the waves are 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nstructive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hich means they bring material from another place and leave i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se waves are low energy – quiet little waves that drop anything they are carrying as they brea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se make beaches bigg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38163-9707-4F5B-97C3-6C5E625ACA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But beaches do not stay the same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of the waves are 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destructive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hich means that they break on the beach and as the water runs back, it drags part of the beach away with i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se waves are high energy – big waves that make more noise as they retreat, taking the sand and shingle with the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se make beaches small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C3A9A-1D05-4B64-AD9F-C71EDA8D7B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What processes make coasts change shape?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ro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r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ra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rro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aulic a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24280" y="14479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nspor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c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lta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spension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43434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1EC31-341B-470F-BC39-1612D743D2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But beaches do not stay the same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waves are a bit of both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called longshore drif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EF769-6DD1-499F-AA74-1440A4A1DD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819520" y="6858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cc"/>
                </a:solidFill>
                <a:latin typeface="Comic Sans MS"/>
              </a:rPr>
              <a:t>Longshore Drift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066680" cy="1041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-77400" y="5562720"/>
            <a:ext cx="418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t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100’s of free power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943AA-C264-4BE7-99B3-D30B76C74F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FF542-A369-416F-92F2-BB70FFCAC8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295280" y="3580920"/>
            <a:ext cx="60984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8321D-1BE8-479F-AFC6-05CFF51881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295280" y="320004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10662-288C-46F4-AE33-E67DAADED5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A9A7D-F69F-462C-90F2-2DC44D35BC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38098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95533-FADB-499B-9783-98C782841E0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35812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A0F94-59E0-414B-94EA-D4173EF4831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62320" y="32767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6C525-9E93-440B-B428-22303910BD1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29718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F9B2-9C30-457E-A1C9-B9EB3DC40AB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Erosion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easily a coast is eroded depends on how hard the rock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sea2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6095880" cy="422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D2740-E775-496E-AD6C-10329ECB8E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E226-9B91-4376-97CC-8763730AE67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276360" y="3048120"/>
            <a:ext cx="7596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4BA0D-4188-46AA-BA49-9937DBB9DEB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86280" y="3048120"/>
            <a:ext cx="266400" cy="693720"/>
          </a:xfrm>
          <a:custGeom>
            <a:avLst/>
            <a:gdLst/>
            <a:ahLst/>
            <a:rect l="l" t="t" r="r" b="b"/>
            <a:pathLst>
              <a:path w="168" h="437">
                <a:moveTo>
                  <a:pt x="168" y="0"/>
                </a:moveTo>
                <a:lnTo>
                  <a:pt x="0" y="4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876B-BB74-49B8-BCBA-F9C27D8E24D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03724-E487-43CA-A22A-93D3E4A3B92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0040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4324E-BCB9-4CF1-8B12-9666E1DC24A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373392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81CAA-8998-4908-B81B-90B66A23127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EEEC4-AF5C-410B-AABB-F6D6E67C1D6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3746520"/>
            <a:ext cx="273240" cy="139680"/>
          </a:xfrm>
          <a:custGeom>
            <a:avLst/>
            <a:gdLst/>
            <a:ahLst/>
            <a:rect l="l" t="t" r="r" b="b"/>
            <a:pathLst>
              <a:path w="172" h="88">
                <a:moveTo>
                  <a:pt x="0" y="88"/>
                </a:moveTo>
                <a:lnTo>
                  <a:pt x="1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62769-D829-4B58-9BE2-7FC2EB31370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3581280"/>
            <a:ext cx="596880" cy="304920"/>
          </a:xfrm>
          <a:custGeom>
            <a:avLst/>
            <a:gdLst/>
            <a:ahLst/>
            <a:rect l="l" t="t" r="r" b="b"/>
            <a:pathLst>
              <a:path w="376" h="192">
                <a:moveTo>
                  <a:pt x="0" y="192"/>
                </a:moveTo>
                <a:lnTo>
                  <a:pt x="3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36097-4152-4243-91E1-BDE04B10B8F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C3BD8-BAEC-48FC-BEC4-F8F31D1E1F1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How cliffs are eroded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ougher rocks of the headlands are gradually eroded away by all the methods of erosion and gradually a small ‘</a:t>
            </a: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Wave-cut notc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’ is mad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it gets bigger, the overhanging rock will eventually tumble into the se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sea4" descr=""/>
          <p:cNvPicPr/>
          <p:nvPr/>
        </p:nvPicPr>
        <p:blipFill>
          <a:blip r:embed="rId1"/>
          <a:stretch/>
        </p:blipFill>
        <p:spPr>
          <a:xfrm>
            <a:off x="4800600" y="1523880"/>
            <a:ext cx="3886200" cy="297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1AD3-3898-43B7-9F4A-8B1CCF6612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95480" y="38862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56933-17D2-42E2-AA39-57381B2948C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95480" y="38862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AA67E-9D52-4172-BE1D-DED3C0990A4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05320" y="35812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F496-42DC-4FB9-82C7-7D22C5CE357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14800" y="32767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FB486-51BE-4A39-B98B-197DDEBEE64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67080" y="32004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2779C-4537-4EB7-9D44-E3055813564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1972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49280" y="327672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Groyne traps sed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0" y="3124080"/>
            <a:ext cx="1028880" cy="133560"/>
          </a:xfrm>
          <a:custGeom>
            <a:avLst/>
            <a:gdLst/>
            <a:ahLst/>
            <a:rect l="l" t="t" r="r" b="b"/>
            <a:pathLst>
              <a:path w="648" h="84">
                <a:moveTo>
                  <a:pt x="648" y="84"/>
                </a:moveTo>
                <a:lnTo>
                  <a:pt x="460" y="32"/>
                </a:lnTo>
                <a:lnTo>
                  <a:pt x="324" y="12"/>
                </a:lnTo>
                <a:lnTo>
                  <a:pt x="216" y="0"/>
                </a:lnTo>
                <a:lnTo>
                  <a:pt x="184" y="0"/>
                </a:lnTo>
                <a:lnTo>
                  <a:pt x="108" y="12"/>
                </a:lnTo>
                <a:lnTo>
                  <a:pt x="0" y="36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63680" y="2514600"/>
            <a:ext cx="194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uild up of sed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gainst the groy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2362320"/>
            <a:ext cx="577800" cy="691920"/>
          </a:xfrm>
          <a:custGeom>
            <a:avLst/>
            <a:gdLst/>
            <a:ahLst/>
            <a:rect l="l" t="t" r="r" b="b"/>
            <a:pathLst>
              <a:path w="364" h="436">
                <a:moveTo>
                  <a:pt x="364" y="436"/>
                </a:moveTo>
                <a:lnTo>
                  <a:pt x="248" y="352"/>
                </a:lnTo>
                <a:lnTo>
                  <a:pt x="148" y="268"/>
                </a:lnTo>
                <a:lnTo>
                  <a:pt x="64" y="152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1067040" cy="104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FE5E2-12A8-4AEF-9A9C-D3A02A304EF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What can happen with longshore drift?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572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sand and shingle are dragged down the coast from the NW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blue line shows a shingle ban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t continued across the gap between the main land and the island to form a </a:t>
            </a:r>
            <a:r>
              <a:rPr b="1" lang="en-GB" sz="3200" spc="-1" strike="noStrike">
                <a:solidFill>
                  <a:srgbClr val="0033cc"/>
                </a:solidFill>
                <a:latin typeface="Comic Sans MS"/>
              </a:rPr>
              <a:t>tombolo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5181480" y="1371600"/>
            <a:ext cx="3962520" cy="385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7FE03-BC3E-4513-BB06-205D5E39071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What can happen with longshore drift?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GB" sz="2800" spc="-1" strike="noStrike">
                <a:solidFill>
                  <a:srgbClr val="0033cc"/>
                </a:solidFill>
                <a:latin typeface="Comic Sans MS"/>
              </a:rPr>
              <a:t>tombol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ra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sand split is a more common fea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1828800" y="2255760"/>
            <a:ext cx="5334120" cy="440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B6FE-C267-4F5F-B526-AF2DDD7C3CC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How cliffs are eroded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4800240"/>
            <a:ext cx="8610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ver time the cliff retreats leaving a </a:t>
            </a:r>
            <a:r>
              <a:rPr b="1" lang="en-GB" sz="2400" spc="-1" strike="noStrike">
                <a:solidFill>
                  <a:srgbClr val="0033cc"/>
                </a:solidFill>
                <a:latin typeface="Comic Sans MS"/>
              </a:rPr>
              <a:t>wave-cut platform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just below the surface, that show when the tide is o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s is in Dorset near Purbeck at Kimmeridge B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5943600" cy="39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53B24-F3A0-4D8C-BEBE-8E7F025108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There are some special coastal features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se form where chalk or limestone form the hard band of roc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 the erosion is help by solution or corrosion. If the water is slightly acid, then the calcium carbonate that makes up these rocks  will dissolve slowl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ocks were laid down millions of years ago in a warm sea and are made mostly of the shells of mollusc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4E22-A93E-4511-9BEB-5CC6BA739E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9280" y="691920"/>
            <a:ext cx="324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cliff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2276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311640" cy="441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DB7E1-5A91-4AAA-9AE2-49562A2679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859280" y="691920"/>
            <a:ext cx="324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crack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276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311640" cy="441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43F3-8219-4D8F-B412-A8E38F7AF0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859280" y="691920"/>
            <a:ext cx="324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cave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2276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31164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F6DC8-EDBB-42CB-AE4D-31B812EA30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07:47:07Z</dcterms:created>
  <dc:creator>Tom </dc:creator>
  <dc:description/>
  <dc:language>en-US</dc:language>
  <cp:lastModifiedBy>Lindy</cp:lastModifiedBy>
  <dcterms:modified xsi:type="dcterms:W3CDTF">2010-01-29T00:02:33Z</dcterms:modified>
  <cp:revision>24</cp:revision>
  <dc:subject/>
  <dc:title>Longshore</dc:title>
</cp:coreProperties>
</file>